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F10-E5B2-4C97-A934-EA6A39F2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404-B731-4298-96BA-B6EA704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F65-47F0-42C3-816D-B79F33E9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106-20D0-40FC-B707-8B92D243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EC4-0D83-456C-905E-6BE12F2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37A-3FDE-4B52-AD75-399B3AF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631-EB16-4042-892E-4D7D2B47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1E8-DF5F-4272-87DA-42C0A860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05E-9AF9-4349-96A0-1ECE46D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9AF-4B41-42CB-9909-8D6DF5E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6C7-2B10-468A-8B15-3734725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34C-873B-430C-B616-2EFAF3D3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7ED-39DE-4D98-9EB6-26A566FA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0001" r="0" b="10001"/>
          <a:stretch/>
        </p:blipFill>
        <p:spPr>
          <a:xfrm>
            <a:off x="533520" y="0"/>
            <a:ext cx="8076960" cy="646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7010280" y="3809880"/>
            <a:ext cx="609840" cy="457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54640" y="4038480"/>
            <a:ext cx="2889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branch and gull to right and make gull look more like image below – see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5504040"/>
            <a:ext cx="1905120" cy="135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3886200"/>
            <a:ext cx="91584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905120" y="3657600"/>
            <a:ext cx="915840" cy="177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5029200"/>
            <a:ext cx="35812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dune grass in these two locations with grass of similar style to current design – add in sailboat – this is stock image off internet, would like something with a little more wind in the s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733920" y="4572000"/>
            <a:ext cx="761760" cy="457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676520" y="4723920"/>
            <a:ext cx="609480" cy="30492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2819520"/>
            <a:ext cx="61272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1676520" y="3504960"/>
            <a:ext cx="457200" cy="152388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08160"/>
            <a:ext cx="6629400" cy="471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609480"/>
            <a:ext cx="28890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ike the profile of this gull faced away and turning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33520"/>
            <a:ext cx="28890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like to emphasize specific glacous winged gul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81080"/>
            <a:ext cx="2889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larger beak than current gull and add black marking on bottom bea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733920"/>
            <a:ext cx="2889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o emphasize the grey striping on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3:31:22Z</dcterms:created>
  <dc:creator>Jen</dc:creator>
  <dc:description/>
  <dc:language>en-US</dc:language>
  <cp:lastModifiedBy>Larsons</cp:lastModifiedBy>
  <dcterms:modified xsi:type="dcterms:W3CDTF">2017-05-31T04:4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